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7FAF-2F4C-40C8-876C-588DFDEDD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6674-8F29-4162-A531-61903F6F3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video clip, develop frame for them to respo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6C53-76E9-48CA-82ED-80672AD97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photocopies of han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0096-F6EB-4E6E-9FD4-FC490B4F1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0551-CF6E-40EC-890C-121FA5660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1A09-CC7B-4C1E-A5CB-D411A0B17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1AF9-297B-4F85-9505-2FAEE90B9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42CD-8F71-439C-823A-CF68D4960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61D9-6A1E-40EE-8C0F-6FF1381F4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ally more about what the teacher does with the writing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ot about the writing technique….it is about what you do with the writing.  Opportunities for scoring and feedback increase as you move from engaging to processing to demonstrating understan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663F-9C0D-43CB-A69E-3CFFD1804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how examples of Engaging and Proce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2892-99F0-475B-998C-88ADCDE9E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5A0-8E87-4C83-BFC1-361F73D9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CF4-4EA9-4EE6-9207-7A7998A9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AAA-427C-4935-AD76-75E3B7B5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136-C995-48DE-9C0E-98AA70DE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E7A3-B1A5-4AA9-B465-8D773107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FB55-A6AC-459E-956C-B5E3F8EE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5A02-E716-4F2E-AF30-3B4E1525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84B3-D3F8-4571-992E-1176ADD1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51FA-56DB-4ADA-AE39-B455B11E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3187-B11A-4755-A262-6398A220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104C-057D-4966-891E-AB964D70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89C-6FF6-4FBA-A36D-72B76F4D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8751-EB84-4629-85EB-E319086C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5DAE-AADB-429F-A65C-04E13C06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F886-D57A-4F5F-86D4-E0A8E794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FD68-5DF7-41AA-834A-117E0A80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625E-6219-46A6-BC4D-45E084FF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2D1F0-AD23-4705-AB78-228E3498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E9624-E391-4667-AD88-0E61A5E2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AC6C-8FCF-4CE9-989F-F840EBAD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0D8A9-9506-4954-9997-F523E4A4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42398-6113-43A2-8F1F-82C59B26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13A-9852-4DBE-8343-07004830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1EB7-B01A-4BDA-9952-DCC99639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261E4-BD56-4452-980A-E10D7787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4F986-2135-43CE-B831-96B11BAD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CF299-166E-4CCA-B9B7-18E3CE1E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1B96E-8682-4C0A-B58E-897CE87B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2EAC2-5733-4C71-B067-C9594965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2E453-395E-4FA2-AF28-A60DC9F9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80C68-646B-42F6-B9DB-25F80F48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8AC37-C78B-4273-B236-A985431A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6DE4F-F7E9-4AD3-B66E-9B5E673D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4D5-5431-4897-B8CE-D5536B6C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23D57-4998-41E1-91EB-9AB595B4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D2A19-A956-4F94-B62E-27F9C74C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64D7A-DB8E-4E62-9939-1F9FFA67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F0076-AC4F-407A-A090-1EAB3468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8B433-84D2-4B47-B7E8-BB5C3A37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9A1D0-378E-408D-913F-FD5895D6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0A965-5254-4A32-8A03-BD15D0B2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75FB8-5C38-4B3B-8C28-BF990CBF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450CE-C51D-464C-861C-F410E271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3D959-1061-4A63-86F2-ED6728C6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5F1-A1D0-44AE-87A1-5BBFD652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CC6CA-C76A-409E-A97D-F0AD1B3F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66826-FDB6-4AA3-9870-12279569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D2B00-1AD0-42FA-99EF-D4EE43EB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9C6C1-AA32-4569-A99C-9961625D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2B821-AAC5-4674-AB07-65D6FE39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9F48F-E353-46F1-85C4-D575F07E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CD0FA-86CE-4FA3-9850-D6411CC6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EFE77-34D6-442C-97A0-37CA7C82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060E9-857A-487E-9407-E766C0B1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5B42A-57CE-4B80-9BD9-CB99E609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8FB-8A37-4AC9-9A15-98F3A79D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5FCCF-DD3D-4B55-A25F-DF014863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DE8E8-4750-4A13-AD6C-B0AF7E3C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F0D46-243E-4C99-83E7-8873C02D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A67B8-CEAC-4997-9D71-E787D33D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5865A-C452-45EF-8627-E7B9CD2E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62F29-BA9B-4609-B37B-17E7BDFB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3BD8C-42DD-487D-908E-8E18C35E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57BC1-5FAA-4D70-BDA8-6B0740EE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F3168-ED26-41D3-9D3A-6D78B7B7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303ED-CF87-4158-9368-987D2EC6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C8B-C1A7-4764-9EDD-34E452C2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42E92-30DE-4C88-BF41-FCE94DE4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9454F-35BE-4C7D-AB8F-1D43B58E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EB0FA-7F82-45F1-99BF-06C4EDC3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61BF8-9298-49AD-B305-23A5634C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2689F-E9C3-4B88-88F6-91A16C5D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5BD95-9047-4612-9309-AFA3984A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A4466-1565-4E0A-874F-97B28E72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E888C-944D-410E-9399-0B9073F0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39CF6-7701-42CD-B332-5568607B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3D1F4-CEAA-43B2-BD95-7B41D38D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683-62C0-4A9F-9C6D-73B1B151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02CC8-4B33-49A1-AE0A-9919F500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1BA08-C17C-46CD-A026-4037EFFF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DD817-FB6B-484F-B69F-6649E00B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3FB2D-3390-4B54-8F82-AD91FA00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E87A6-9133-472A-AF31-863984F3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4ECE6-2C9F-45D2-909B-EE534ADF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BE82A-B477-4421-86DB-37978133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C6405-2E19-4A24-959D-787B65EF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4DF28-5E3D-4768-962C-C964F127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2DF3E-143F-4064-8B0F-E18D513F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91EE-3FC9-4DDB-8C2D-A2BF271E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E6FAD-D6F6-4CF5-99A9-208A049A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DDEAF-11FF-492C-9E83-A25F18E0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03491-028C-428E-95CA-825BEFBA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E85EB-1C93-48D5-A704-E4B4AF0A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1B487-1E12-4172-8D0E-60E4D66A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85305-9740-4475-9E46-527C59B9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9F671-6D55-4089-A567-C7C79AA2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c9c9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6D80-2C69-48A9-B116-50FA81C9B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c9c9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56AB-0C7F-4D5A-9122-967E83FAC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c9c9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1D16-A19E-4C2C-A3B9-009AE9AF2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c9c9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0AE0-EFC2-4DDC-8F69-739F55053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c9c9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4C50-FD78-45EA-8123-5440D7979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c9c9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98D2-8BD3-4A24-BC78-888FE823B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c9c9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A7F4-2155-45CA-9DF0-897A2C851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c9c9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b2b2b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C0F0-A6D5-42EA-8FB6-15F407E00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m77KSBhyR8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Writing to Lear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Lincoln Team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anuary 18, 201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reating your writing opportunities…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 Example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To Kill A Mockingbi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dddddd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ding Literature, standard 1-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te strong and thorough textual evidence to support analysis of what the text say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dddddd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ding Literature, standard 2-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termine a theme or central idea of a text and analyze in detail its development over the course of the text, including how it emerges and is shaped and refined by specific details; provide and objective summary of the text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itle 3"/>
          <p:cNvSpPr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MPT EXAMPLES STANDARD, THREE PURP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380880" y="1219320"/>
          <a:ext cx="8458200" cy="5410080"/>
        </p:xfrm>
        <a:graphic>
          <a:graphicData uri="http://schemas.openxmlformats.org/drawingml/2006/table">
            <a:tbl>
              <a:tblPr/>
              <a:tblGrid>
                <a:gridCol w="2210040"/>
                <a:gridCol w="2743200"/>
                <a:gridCol w="350496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ng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c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emonstrat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nderstan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o you think people are inherently good or evil?  Give examples from your life or people you kno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sing an example from Chapter 3 write about whether you think humans are inherently good or evil.  What are the characters doing or saying that supports your opin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discussed the theme of good and evil as we read TKMB.  Write a letter to Scout where are you evaluate whether people are inherently good or evil.  Construct your argument using examples from the boo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rticl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256320" indent="-256320">
              <a:spcBef>
                <a:spcPts val="499"/>
              </a:spcBef>
              <a:buClr>
                <a:srgbClr val="b2b2b2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Writing Frames: scaffolding children’s nonfiction writing in a range of genre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by Maureen Lewis and David Wra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42948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42948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42948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Complete the Double Entry Journa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42948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 MT"/>
              </a:rPr>
              <a:t>- When you are finished put a star next to your MVP (Most Valuable Point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4" name="Picture 2" descr="C:\Program Files\Microsoft Office\MEDIA\OFFICE12\Bullets\BD21298_.gif"/>
          <p:cNvPicPr/>
          <p:nvPr/>
        </p:nvPicPr>
        <p:blipFill>
          <a:blip r:embed="rId1"/>
          <a:stretch/>
        </p:blipFill>
        <p:spPr>
          <a:xfrm>
            <a:off x="380880" y="3886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riting Fra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hould teachers use Facebook to talk to students?</a:t>
            </a:r>
            <a:br>
              <a:rPr sz="3200"/>
            </a:br>
            <a:r>
              <a:rPr b="0" lang="en-US" sz="3200" spc="-1" strike="noStrike" u="sng">
                <a:solidFill>
                  <a:srgbClr val="5f5f5f"/>
                </a:solidFill>
                <a:uFillTx/>
                <a:latin typeface="Bookman Old Style"/>
                <a:hlinkClick r:id="rId1"/>
              </a:rPr>
              <a:t>http://www.youtube.com/watch?v=Tm77KSBhyR8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386" name="Should_Teachers_Use_Facebook_To_Talk_To_Students.wmv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Develop a frame for your us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ing your “Sample Genre Frames” develop a frame that you can use in your own class.  Choose one frame option to guide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Exit Slip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2 word summary (caveman summary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What you’ve learned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Your understanding of a writing fram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The difference between engaging and processing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r our Feb.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ookman Old Style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meeting…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ring back at least 1 writing frame that you were able to implement with studen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Be prepared to share these frames and a few sample student writing products with the group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ity Name: Writing to Learn-Year 1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Implement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ity #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A01321737120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05680" indent="-22392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quires 15 hours of documented agendas for professional development provided at the building level (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Due May 3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).  Data Team meetings may be incorporated within this 15 hou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GOAL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cross the school yea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ing in EVERY classroom EVERY da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mediate go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T STUDENTS WRITING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Admit Slip: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lf Assessmen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304920" y="1600200"/>
          <a:ext cx="8534160" cy="4800600"/>
        </p:xfrm>
        <a:graphic>
          <a:graphicData uri="http://schemas.openxmlformats.org/drawingml/2006/table">
            <a:tbl>
              <a:tblPr/>
              <a:tblGrid>
                <a:gridCol w="5997600"/>
                <a:gridCol w="844560"/>
                <a:gridCol w="846000"/>
                <a:gridCol w="846000"/>
              </a:tblGrid>
              <a:tr h="893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ive yourself a score (3 high, 1 low) and explain why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mplementing a Write to Lear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requency of in-class writing opport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Goal: writing in every class, every 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mfort level with implementation within your 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Group Sharing of Exampl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hare some examples of engaging writing opportunities you have implemented with stud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Quick Wri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what worked and what didn’t work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Whip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Quick Wri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how can you see Write To Learn being used in the coming weeks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Whip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ree Purposes for Nonfiction Writing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urposes for Nonfiction Writing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04920" y="1600200"/>
          <a:ext cx="8534160" cy="433404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914400"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ng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c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emonstrating Understa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41964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urpose:  provide all students  with  a nonthreatening opportunity to respo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udents engaged in wr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- Not graded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urpose:  help students “think” through the end of their  p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udents processing the 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Gill Sans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ome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Gill Sans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heck, +, - 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urpose:  produce a product piece that goes through the writing proce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udents are provided feedback in using a rubric with clearly identified levels of pro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Purposes for Nonfiction Writing: What Do They Look Like?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04920" y="1600200"/>
          <a:ext cx="8610480" cy="426708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825480">
                <a:tc>
                  <a:txBody>
                    <a:bodyPr lIns="91800" rIns="91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ng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800" marR="91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1800" rIns="918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c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800" marR="91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emonstrating Understa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813840"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Gill Sans MT"/>
                        </a:rPr>
                        <a:t>Require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EQUENT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on-threatening opportunities for students to wri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rticipation by all stud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does not require)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eacher collection or gr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Gill Sans MT"/>
                        </a:rPr>
                        <a:t>Require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houghtful prompts aligned with curriculum stand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alysis of student work (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eddingText BT"/>
                        </a:rPr>
                        <a:t>√ + -)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to determine next steps for instruction (formativ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1800" rIns="918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Gill Sans MT"/>
                        </a:rPr>
                        <a:t>Require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mmon promp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mmon rubr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sistent expect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llocated time for collaborative sco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uilding cul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73" name="TextBox 2"/>
          <p:cNvSpPr/>
          <p:nvPr/>
        </p:nvSpPr>
        <p:spPr>
          <a:xfrm>
            <a:off x="457200" y="57150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Opportunities for scoring and feedback increase as you move from engaging to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reating your writing opportunities…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tent—Social Stud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ndard- ICC- Pol. Sci. F-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b2b2b2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Understand how various political systems throughout the world define the rights and responsibilities of the individual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7288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 plain English:  Compare and contrast different governments by the way they treat their citizens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itle 3"/>
          <p:cNvSpPr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MPT EXAMPLES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STANDARD, THREE PURP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80880" y="1066680"/>
          <a:ext cx="8458200" cy="5668920"/>
        </p:xfrm>
        <a:graphic>
          <a:graphicData uri="http://schemas.openxmlformats.org/drawingml/2006/table">
            <a:tbl>
              <a:tblPr/>
              <a:tblGrid>
                <a:gridCol w="2210040"/>
                <a:gridCol w="3504960"/>
                <a:gridCol w="274320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ng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c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emonstrat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nderstan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60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Gill Sans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f you were stranded on a desert island what three rules would you have?  Why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Gill Sans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f you lived in a country with a (monarchy, autocracy, oligarchy), state three ways your life would be different than it is now.  Why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Gill Sans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ame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   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 monarchy is a system of government where…  In a monarchy a citizen is required…  Citizens have_____ freed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Gill Sans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- In an essay compare and contrast the following forms of government, paying close attention to pros and cons of eac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8:40:40Z</dcterms:created>
  <dc:creator>Curto, Sara</dc:creator>
  <dc:description/>
  <dc:language>en-US</dc:language>
  <cp:lastModifiedBy>Curto, Sara</cp:lastModifiedBy>
  <dcterms:modified xsi:type="dcterms:W3CDTF">2012-01-17T14:47:17Z</dcterms:modified>
  <cp:revision>36</cp:revision>
  <dc:subject/>
  <dc:title>PowerPoint Presentation</dc:title>
</cp:coreProperties>
</file>